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D60-3EA2-4303-9DDF-C6FBF0B3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D77-69CF-41BD-BE26-F3C5C5B6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E4F-0F09-45AA-A2EF-8B5F3B51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45A-019A-4CB9-BE47-148C7E92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634F-C73A-46E7-AB02-7593006D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84B-5875-4ABE-A098-764AA151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AD6-BA8C-4883-A902-AFF9A1C2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CAC-500F-4E23-AD7F-A59D20A1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6F6-2790-4406-8151-C0ADBDE3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FBB-D01F-4089-AFFE-846703D7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5CA-C08B-4325-B077-A9FE55C8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70D-F32B-4E37-A909-008CEE0E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66BE-E12B-4829-BE14-1C37D7699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22400" y="789120"/>
            <a:ext cx="709920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9000" y="811080"/>
            <a:ext cx="69645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4720" y="789120"/>
            <a:ext cx="705312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89000" y="822240"/>
            <a:ext cx="69645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9000" y="844560"/>
            <a:ext cx="69645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828720"/>
            <a:ext cx="700884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9000" y="782640"/>
            <a:ext cx="696456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782640"/>
            <a:ext cx="700884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89000" y="833400"/>
            <a:ext cx="696456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777960"/>
            <a:ext cx="70088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771480"/>
            <a:ext cx="700884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7:30:02Z</dcterms:created>
  <dc:creator>bealst</dc:creator>
  <dc:description/>
  <dc:language>en-US</dc:language>
  <cp:lastModifiedBy>jayoig</cp:lastModifiedBy>
  <dcterms:modified xsi:type="dcterms:W3CDTF">2011-05-06T17:59:41Z</dcterms:modified>
  <cp:revision>2</cp:revision>
  <dc:subject/>
  <dc:title>Slide 1</dc:title>
</cp:coreProperties>
</file>